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2A8A-9317-4213-96E1-18BB4E88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D8D-BE2E-45B7-8845-2308D2D2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A12C-1524-4F75-A083-AE0DEDAB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47E0-F6D9-4EF6-8442-EDD1DE71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0A5-94BD-43C1-A509-8932D9EE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3226-A664-43C2-B5E1-67A02B3C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A64-25EF-46E5-B6C0-179560F7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E90-CC14-4A77-B453-AE14450F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60E-AE5C-4A08-94F9-26B218B7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33AD-81E7-42A9-8C4E-21F46C6D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AB2-A333-4B21-B7C8-71664A99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094-6BF8-43CE-BC39-0896756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970-177B-4E3C-A611-E1BDEFE6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86F-9DB1-431C-8133-B9CE90AB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7D-8A13-4A8D-8392-1DF96939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33E-B241-4006-855E-E57B63C2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766-CA08-4A85-A3FD-47E7333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4C8-4E8F-48D1-925D-6284752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B8D-AD36-4380-A24F-C76A2E6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F63-8276-403E-9259-BF33E4A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C8-1990-4B4E-9AEB-548A77F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78A-C222-4F9A-8823-C405BD2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8F7-C3C5-4285-864E-42160E26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rc.carleton.edu/1258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 and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C, Carle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= Utility in meeting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uses of data take place in wildly diverse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” data for one educator may be useless fo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metric can capture “good for edu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s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extbook visualization, or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oal is to help the learner understand the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rying to tell a convincing story; demonstrate that scientific understanding is underpinned by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lean and direct in a way that may be misleadingly atyp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xploration by Stu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‘real’ process: frame problem, find/model data, ask questions, probe and analyze, revise questions, bring in different data, analyse.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ducation this is usually scaffolded: data selected/formatted/subsetted, questions framed, analysis outlined, tool use explicated.  Focus student energy on the bits that matter (which depends on goals) in time available matched to student abilities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Data Explo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to address real-world complex proble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udents’ ability to use scientific methods, including consideration of the values and ethics of working with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ch students how to critically evaluate the integrity and robustness of data or evidence and of their consequent interpretations or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aining in scientific, technical, quantitative, and communication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9080" y="62913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ata in the Classroom  http://serc.carleton.edu/3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Facilitate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find and use appropriate data of interest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knowledge for use i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on relevance of data to problems of societal, educational or scientific signific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points to examples of educational us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reliably available and archived for long term access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to, and organization of, the data is end-user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ve information (e.g. metadata) should be audience appropri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ascertain the quality of data and determine the impact of data quality on the certainty of their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about overall data collection, quality, reduction, and limitations. Data site includes sources of error and limitations of collection process as well as inaccuracies/ uncertainties from models/ particular choice of re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accuracy of individual data sets/points/ analyses is provi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s provided in ways that facilitate manipulation through a variety of tools. This may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he data in common formats that are accessible via desktop tools (spreadsheets, GISs, image analysis 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ools that are directly integrated into or downloadable from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ing the data via protocols that make it accessible through 3rd party to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ols should be easily acquired, easy to use, and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supports, through these tools, data manipulation to answer question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ata contained within the site or combined with data from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ppropriate visu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student's own data to that in the 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320" y="61387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Working Group Recommendations: http://serc.carleton.edu/6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heets: examples of education-facilitating contextual informatio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rc.carleton.edu/125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5800" y="762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ploration from the Using Dat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167652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and accessing data relevant to the topic they are investig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the quality of thi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ppropriate tools and interfaces to manipulate and render data to answe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ing multiple and diverse data sets to solve a central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visualizations and representations that communicate interpretations and conclu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ng student data to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individual student data in the context of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7:38:53Z</dcterms:created>
  <dc:creator>Sean Fox</dc:creator>
  <dc:description/>
  <dc:language>en-US</dc:language>
  <cp:lastModifiedBy>Carol Meyer</cp:lastModifiedBy>
  <dcterms:modified xsi:type="dcterms:W3CDTF">2011-07-14T16:31:49Z</dcterms:modified>
  <cp:revision>25</cp:revision>
  <dc:subject/>
  <dc:title>Data Quality and Education</dc:title>
</cp:coreProperties>
</file>